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C06-F297-451D-96C2-E189461E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1BC-4338-4A76-B2A0-6128F6F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13C-44BB-48D5-86D5-F45E7795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DE4-F3C5-41EB-BF1D-4B7F979C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EB6-7F05-42DE-9C45-DF0046C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825-75AD-4009-A30F-741EF4C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425-3D22-4AC6-93C4-41CBFE1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8C3-4E9A-4582-9BDC-68D93683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68C-4ECC-4596-8E9B-A0CA86D8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892-A002-4F0A-96F0-CF90D90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EA9-DFCD-4109-A6B9-ED1D37F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AD0-B014-43F3-8B71-ECCEB80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4C7-BCE9-4170-99A6-326C32C7B9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Valovi se odbijaju i l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odnose upadni kut i kut lo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lom valova - zakon.jpg"/>
          <p:cNvPicPr/>
          <p:nvPr/>
        </p:nvPicPr>
        <p:blipFill>
          <a:blip r:embed="rId2"/>
          <a:stretch/>
        </p:blipFill>
        <p:spPr>
          <a:xfrm>
            <a:off x="1187280" y="2133720"/>
            <a:ext cx="6816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alovi koji prelaze u plićak pod nekim kutom skreću od svoga smjera širenja pa kažemo da se valovi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l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i prelasku vala iz sredstva u kojemu se širi većom brzinom u sredstvo u kojem se širi manjom brzinom, val se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lomi prema okomic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bi se rasprostirao val koji iz pliće prelazi u dublju vodu? Kako bi se odnosili upadni kut i kut odbijan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te primijetili promatrajući kako morski valovi iz duboke vode dolaze prema ob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valovi odbija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ravni valovi na ravnoj zapre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opažate? Kako se ravni val odbija od zapre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napShot(660).jpg"/>
          <p:cNvPicPr/>
          <p:nvPr/>
        </p:nvPicPr>
        <p:blipFill>
          <a:blip r:embed="rId1"/>
          <a:srcRect l="14173" t="0" r="5315" b="0"/>
          <a:stretch/>
        </p:blipFill>
        <p:spPr>
          <a:xfrm>
            <a:off x="826920" y="1649520"/>
            <a:ext cx="3681720" cy="257148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5"/>
          <p:cNvCxnSpPr/>
          <p:nvPr/>
        </p:nvCxnSpPr>
        <p:spPr>
          <a:xfrm flipH="1" flipV="1">
            <a:off x="2483640" y="2204280"/>
            <a:ext cx="143640" cy="1656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5" name="Content Placeholder 3" descr="SnapShot(660).jpg"/>
          <p:cNvPicPr/>
          <p:nvPr/>
        </p:nvPicPr>
        <p:blipFill>
          <a:blip r:embed="rId2"/>
          <a:stretch/>
        </p:blipFill>
        <p:spPr>
          <a:xfrm>
            <a:off x="4840200" y="1609560"/>
            <a:ext cx="3713400" cy="260208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8"/>
          <p:cNvCxnSpPr/>
          <p:nvPr/>
        </p:nvCxnSpPr>
        <p:spPr>
          <a:xfrm flipH="1" flipV="1">
            <a:off x="6372000" y="2133000"/>
            <a:ext cx="144720" cy="1656360"/>
          </a:xfrm>
          <a:prstGeom prst="straightConnector1">
            <a:avLst/>
          </a:prstGeom>
          <a:ln w="76320">
            <a:solidFill>
              <a:srgbClr val="00b050"/>
            </a:solidFill>
            <a:miter/>
            <a:headEnd len="med" type="arrow" w="med"/>
          </a:ln>
        </p:spPr>
      </p:cxnSp>
      <p:sp>
        <p:nvSpPr>
          <p:cNvPr id="47" name="Rectangle 9"/>
          <p:cNvSpPr/>
          <p:nvPr/>
        </p:nvSpPr>
        <p:spPr>
          <a:xfrm>
            <a:off x="826920" y="4365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vni val se od zapreke usporedne s valnom frontom odbija kao ravni val, ali je odbijena valna zraka usmjerena suprotno od upadne zr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promijeniti, postavimo li zapreku uko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SnapShot(258) 2.jpg"/>
          <p:cNvPicPr/>
          <p:nvPr/>
        </p:nvPicPr>
        <p:blipFill>
          <a:blip r:embed="rId2"/>
          <a:srcRect l="12205" t="0" r="17323" b="0"/>
          <a:stretch/>
        </p:blipFill>
        <p:spPr>
          <a:xfrm>
            <a:off x="324000" y="2708280"/>
            <a:ext cx="4252680" cy="339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SnapShot(258) b.jpg"/>
          <p:cNvPicPr/>
          <p:nvPr/>
        </p:nvPicPr>
        <p:blipFill>
          <a:blip r:embed="rId3"/>
          <a:srcRect l="12598" t="0" r="18307" b="0"/>
          <a:stretch/>
        </p:blipFill>
        <p:spPr>
          <a:xfrm>
            <a:off x="4788000" y="2698920"/>
            <a:ext cx="41702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adna valna zraka i okomica na zapreku zatvaraju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upadni ku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a odbijena zraka i okomica na zapreku zatvaraju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kut odbij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ja zakonitost vrijedi između upadnog kuta i kuta odbija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233.tif"/>
          <p:cNvPicPr/>
          <p:nvPr/>
        </p:nvPicPr>
        <p:blipFill>
          <a:blip r:embed="rId3"/>
          <a:stretch/>
        </p:blipFill>
        <p:spPr>
          <a:xfrm>
            <a:off x="5724360" y="907920"/>
            <a:ext cx="278316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234.tif"/>
          <p:cNvPicPr/>
          <p:nvPr/>
        </p:nvPicPr>
        <p:blipFill>
          <a:blip r:embed="rId4"/>
          <a:stretch/>
        </p:blipFill>
        <p:spPr>
          <a:xfrm>
            <a:off x="5724360" y="3500280"/>
            <a:ext cx="3100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i odbijanju valova na zapreci, kut odbijanja jednak je upadnom ku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β = 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u jednakost nazivamo zakon odbijanja va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Što se promijeni kada valovi prelaze iz dublje u pliću vod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5000"/>
            <a:ext cx="3610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valovi u dubljoj i plićoj vo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valovi prijeđu iz dublje u pliću vodu, što im se promije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lom valova na paralelnoj plicini.jpg"/>
          <p:cNvPicPr/>
          <p:nvPr/>
        </p:nvPicPr>
        <p:blipFill>
          <a:blip r:embed="rId3"/>
          <a:stretch/>
        </p:blipFill>
        <p:spPr>
          <a:xfrm>
            <a:off x="4859280" y="2708280"/>
            <a:ext cx="24782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Što se promijeni kada valovi prelaze iz dublje u pliću vod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3178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valovi u dubljoj i plićoj vo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s valnim frontama događa na rubu plićeg d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lom valova na kosoj plicini.jpg"/>
          <p:cNvPicPr/>
          <p:nvPr/>
        </p:nvPicPr>
        <p:blipFill>
          <a:blip r:embed="rId3"/>
          <a:stretch/>
        </p:blipFill>
        <p:spPr>
          <a:xfrm>
            <a:off x="3780000" y="285264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600200"/>
            <a:ext cx="230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ibaju li se dijelovi vala koji su iznad pliće vode u istom smjeru kao i oni koji su iznad dublje vod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lom valova - zoom.jpg"/>
          <p:cNvPicPr/>
          <p:nvPr/>
        </p:nvPicPr>
        <p:blipFill>
          <a:blip r:embed="rId2"/>
          <a:stretch/>
        </p:blipFill>
        <p:spPr>
          <a:xfrm>
            <a:off x="2771640" y="2133720"/>
            <a:ext cx="6046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0:31:09Z</dcterms:created>
  <dc:creator>Zdenko</dc:creator>
  <dc:description/>
  <dc:language>en-US</dc:language>
  <cp:lastModifiedBy>Zdenko</cp:lastModifiedBy>
  <dcterms:modified xsi:type="dcterms:W3CDTF">2014-07-18T09:14:51Z</dcterms:modified>
  <cp:revision>35</cp:revision>
  <dc:subject/>
  <dc:title>Opisujemo val</dc:title>
</cp:coreProperties>
</file>